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B0B-8805-4007-B773-6AF6AE8A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51D-5595-47D1-8C8A-20A68D29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A03-24C1-4B28-BD67-54816E3E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A3A-9A6A-4E58-8E4D-D590F08F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DF7-2254-4B6E-96E1-1D9AA93B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153-F4C7-4BA5-A8BD-E4899C96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107-5409-44C4-9BE5-98BB84A7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2AC-2E52-4CF2-8F4E-A7A14B1E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157-EF4B-4D04-9302-F43C7B34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9B9-76D3-480F-8FB6-C9CAECEC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BD5-F12B-4156-82BC-9B262A23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33A-0D8A-4515-BC1D-1B50FF51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B38E-1B2A-4D6B-A1B6-A4BE944F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6 + 1 Traits of Good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7480" y="1600200"/>
            <a:ext cx="3027240" cy="45259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1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 refers to the mechanical correctness of the piece:  spelling, grammar, usage, paragraphing, use of capitals,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 also refers to the style of a piece of writing (example:  how to write a business letter or a formal ess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Broadway"/>
              </a:rPr>
              <a:t>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deas are information which can come from the writer’s own experiences or observations, research, reading, or talking with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419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80160" y="2286000"/>
            <a:ext cx="21445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4952880" cy="619236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nsidering ideas for your writing, remem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have a solid, main idea that is clear and easy to ident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interesting, relevant, accurate details that expand or clarify your main idea and bring it to life.  In narrative writing, this is done through effective description and imag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message must be clear and easily underst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left out unneeded information.  Every detail that you have included contributes to the pi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276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AGERY: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that appeals to the senses. Descriptions of people or objects stated in terms of our senses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is the structure of a piece of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 you choose should enhance your ideas and make your piece easier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gives your writing direction and helps your reader move through your id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S TO STRONG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ful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, effective, and purposeful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acing – speed up and slow down to help your readers determine what is important and what is seco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conclusion – wraps your piece up and leaves your reader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2666880"/>
            <a:ext cx="1184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17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is the writer’s personality and individuality translated onto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is the individual style of th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shows that the writer cares about his or her audience and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less writing is lifeless writ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 is the careful selection of words that fit audience, topic, and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 includes energetic verbs, specific nouns, effective adjectives and adverbs.  This creates vivid images and clear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d precise words make great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in sentence length and style adds interest to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should flow smoothly when rea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(if used) is effective and authen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1:15:56Z</dcterms:created>
  <dc:creator>nbdoe</dc:creator>
  <dc:description/>
  <dc:language>en-US</dc:language>
  <cp:lastModifiedBy>nbdoe</cp:lastModifiedBy>
  <dcterms:modified xsi:type="dcterms:W3CDTF">2006-09-26T12:31:35Z</dcterms:modified>
  <cp:revision>8</cp:revision>
  <dc:subject/>
  <dc:title>6 + 1 Traits of Good Writing</dc:title>
</cp:coreProperties>
</file>